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glass.wav" ContentType="audio/x-wav"/>
  <Override PartName="/ppt/media/image4.wmf" ContentType="image/x-wmf"/>
  <Override PartName="/ppt/media/image2.wmf" ContentType="image/x-wmf"/>
  <Override PartName="/ppt/media/drumroll.wav" ContentType="audio/x-wav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F218-C008-42E6-AF86-A083630908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7717-F179-4F27-ADCA-2001D04B5D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9D44-403F-44B1-98C6-D71FC60D5E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8D69-821F-4208-83A8-183E0B069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37BE-11F0-49B5-8AA6-B81A4B055C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73BA-A81D-4D01-9527-6E8277000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58CC-5150-4E26-B11E-1AD734446D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E7C2-F592-45D3-B32F-0D33A398C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7EE1-1F0C-44FE-AD0C-D204515800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8E34-5A8A-4946-9B09-6BBC88985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2200-2EFF-422E-9042-2B6BCECD9C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C6D1-F55F-45AF-8C58-C8911810B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C721-F0C8-4A1D-BB03-BD7E6F41D8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C02B-CCD0-44A7-82E7-DB8E31D43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F96A-C2A8-4DFE-B657-9CF445E6B6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5F12-4645-409A-8C3A-0B9B90772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AE2B-00CD-43A8-B9B6-D2615ABCC4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4EA7-BEA1-425C-A3BA-1EB73739B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FE3C-C715-4A34-9CB7-74069CE48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E873-47FA-4623-B5AC-10DD4672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5B31-621C-4A66-8419-4080E1AA0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74B1-79B9-4FE2-9EB7-BE0B845EF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EB51-E6C2-4DA4-B1B8-AC5ADDEA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4946-9638-469A-82B8-CC5C48CE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7CA3-FC2C-43D1-ACF9-1BF77051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D1AF-FF1F-4D3D-A5A4-057CE0B1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F7F2-8987-4A30-81CF-2241EEFF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952F-D567-4DC1-BE17-68E2B15D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CCB4-E9E1-4FBF-96F2-E203AA5F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2DBF-B5A5-456B-8630-A969CC50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2D23-648D-4417-B0BB-9BF98321F76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-171720"/>
            <a:ext cx="8839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66ff"/>
                </a:solidFill>
                <a:latin typeface="Trebuchet MS"/>
              </a:rPr>
              <a:t>Teacher-of-Literacy.co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761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5050"/>
                </a:solidFill>
                <a:latin typeface="Trebuchet MS"/>
              </a:rPr>
              <a:t>Direct and indirect spee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rebuchet MS"/>
              </a:rPr>
              <a:t>Literacy Key Skills - Wr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iteracy logo"/>
          <p:cNvPicPr/>
          <p:nvPr/>
        </p:nvPicPr>
        <p:blipFill>
          <a:blip r:embed="rId1"/>
          <a:stretch/>
        </p:blipFill>
        <p:spPr>
          <a:xfrm>
            <a:off x="6407280" y="1773360"/>
            <a:ext cx="2628720" cy="8445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6408720" y="263700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rebuchet MS"/>
              </a:rPr>
              <a:t>www.Teacher-of-Literac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MC900297565[1]"/>
          <p:cNvPicPr/>
          <p:nvPr/>
        </p:nvPicPr>
        <p:blipFill>
          <a:blip r:embed="rId2"/>
          <a:stretch/>
        </p:blipFill>
        <p:spPr>
          <a:xfrm>
            <a:off x="1908000" y="2421000"/>
            <a:ext cx="504036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96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2"/>
          <p:cNvSpPr/>
          <p:nvPr/>
        </p:nvSpPr>
        <p:spPr>
          <a:xfrm>
            <a:off x="1295280" y="762120"/>
            <a:ext cx="6400800" cy="4114800"/>
          </a:xfrm>
          <a:prstGeom prst="wedgeRoundRectCallout">
            <a:avLst>
              <a:gd name="adj1" fmla="val -3199"/>
              <a:gd name="adj2" fmla="val 78509"/>
              <a:gd name="adj3" fmla="val 16667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3"/>
          <p:cNvSpPr txBox="1"/>
          <p:nvPr/>
        </p:nvSpPr>
        <p:spPr>
          <a:xfrm>
            <a:off x="2514600" y="1066680"/>
            <a:ext cx="456264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BUMP N GRIND"/>
              </a:rPr>
              <a:t>Direct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BUMP N GRIND"/>
              <a:ea typeface="BUMP N GRI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BUMP N GRIND"/>
              </a:rPr>
              <a:t>and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BUMP N GRIND"/>
              <a:ea typeface="BUMP N GRI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BUMP N GRIND"/>
              </a:rPr>
              <a:t>Indirect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BUMP N GRIND"/>
              <a:ea typeface="BUMP N GRI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BUMP N GRIND"/>
              </a:rPr>
              <a:t>Speech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BUMP N GRIND"/>
              <a:ea typeface="BUMP N GRI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Reporting 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41400" y="1599840"/>
            <a:ext cx="6858000" cy="39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re are two ways of reporting what somebody say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rect spee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direct (or reported) spee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629400" y="3352680"/>
            <a:ext cx="1600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MC900365708[1]"/>
          <p:cNvPicPr/>
          <p:nvPr/>
        </p:nvPicPr>
        <p:blipFill>
          <a:blip r:embed="rId1"/>
          <a:stretch/>
        </p:blipFill>
        <p:spPr>
          <a:xfrm>
            <a:off x="6443640" y="4413240"/>
            <a:ext cx="2471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Direct 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"/>
          <p:cNvSpPr/>
          <p:nvPr/>
        </p:nvSpPr>
        <p:spPr>
          <a:xfrm flipH="1">
            <a:off x="380160" y="2209680"/>
            <a:ext cx="3886200" cy="2895840"/>
          </a:xfrm>
          <a:prstGeom prst="wedgeEllipseCallout">
            <a:avLst>
              <a:gd name="adj1" fmla="val -40893"/>
              <a:gd name="adj2" fmla="val 89856"/>
            </a:avLst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838080" y="2971800"/>
            <a:ext cx="3353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direct speech we use the speaker’s own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4343400" y="2057400"/>
            <a:ext cx="4343400" cy="40273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4572000" y="2590920"/>
            <a:ext cx="1905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 text we put speech marks around the words spoke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6858000" y="2590920"/>
            <a:ext cx="16765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peech marks are also called inverted comma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Indirect 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indirect speech (sometimes called reported speech) we do not use the exact words of the speak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ead we report what was sa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sometimes need to change pronouns and verb tenses. We don’t use speech ma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250920" y="5229360"/>
            <a:ext cx="3124080" cy="1218960"/>
          </a:xfrm>
          <a:prstGeom prst="wedgeEllipseCallout">
            <a:avLst>
              <a:gd name="adj1" fmla="val 33282"/>
              <a:gd name="adj2" fmla="val 47398"/>
            </a:avLst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 am going hom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581280" y="533412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elen said she was going h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Punctuating Direct Speech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using direct speech in your writing you need to use the correct punct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exact words spoken must be enclosed in speech ma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first word of the speech must begin with a capital let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words in the speech marks must be separated from the rest of the sentence by a com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must use a new line when a new speaker begins to spea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Using Speech in Your 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speech in fiction and non-fiction writing adds varie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ever, writing out long pieces of direct speech can make your writing confusing. It also slows down the 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orted speech can summarise what the speaker has said so that the action moves along more quick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orted speech is useful when you want a contrast between what a character says and what he or she is thinking. (e.g. Lady Macbe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Advantages and disadvantages of each type of 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rect speech can show what a character is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ng speeches can be bo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o many speakers can confuse the rea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rect speech can add variety to wri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direct speech can be summarised briefly so that it does not slow down the pace of the 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can show a contrast between what a character is saying and what he or she is thin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your writing use mainly reported speech. Use direct speech only to emphasise the main points your characters m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bore and confuse your readers by writing out long conversations between your charac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rect speech should be used sparing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most effective when only the most forceful statements are put into direct spee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13:52:34Z</dcterms:created>
  <dc:creator>Martin</dc:creator>
  <dc:description/>
  <dc:language>en-US</dc:language>
  <cp:lastModifiedBy>MNugent</cp:lastModifiedBy>
  <dcterms:modified xsi:type="dcterms:W3CDTF">2013-02-23T14:41:37Z</dcterms:modified>
  <cp:revision>2</cp:revision>
  <dc:subject/>
  <dc:title>Slide 1</dc:title>
</cp:coreProperties>
</file>